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423-FA78-4996-803E-D9023829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48F-9962-4453-96F0-89647069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F8B-690D-4C48-90A8-2FF4F68C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6B6-9EAF-4217-BDF0-67FC64E0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F76-3250-444D-B11A-DFD83FB7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734-4C6E-4DD2-938D-0C75C026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6B2-81CF-495F-9A4A-C0020A6C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507-64F8-4687-BD35-17B0669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04A-7FE1-45AD-B399-AB2D1D9E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345-5EC1-4687-BC30-49394BD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62C-2389-4654-9C8F-74E46A6E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B90-947D-4459-B9CF-513A4017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E48-32D8-4C33-ADAD-F6EF86310F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8,3,&#21069;&#35328;" TargetMode="External"/><Relationship Id="rId3" Type="http://schemas.openxmlformats.org/officeDocument/2006/relationships/hyperlink" Target="272,8,&#21487;&#34892;&#24615;&#20998;&#26512;" TargetMode="External"/><Relationship Id="rId4" Type="http://schemas.openxmlformats.org/officeDocument/2006/relationships/hyperlink" Target="282,13,&#27963;&#21160;&#27969;&#31243;" TargetMode="External"/><Relationship Id="rId5" Type="http://schemas.openxmlformats.org/officeDocument/2006/relationships/hyperlink" Target="268,15, &#39044;&#26399;&#25104;&#26524; 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4,11,&#27963;&#21160;&#27969;&#31243;" TargetMode="External"/><Relationship Id="rId3" Type="http://schemas.openxmlformats.org/officeDocument/2006/relationships/hyperlink" Target="278,15, &#27963;&#21160;&#27969;&#31243; " TargetMode="External"/><Relationship Id="rId4" Type="http://schemas.openxmlformats.org/officeDocument/2006/relationships/hyperlink" Target="281,17,&#27963;&#21160;&#27969;&#31243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XXX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院青年志愿者协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级  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赵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矩形 3" descr=""/>
          <p:cNvPicPr/>
          <p:nvPr/>
        </p:nvPicPr>
        <p:blipFill>
          <a:blip r:embed="rId2"/>
          <a:stretch/>
        </p:blipFill>
        <p:spPr>
          <a:xfrm>
            <a:off x="179280" y="-312840"/>
            <a:ext cx="9721800" cy="5313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hdn.xnimg.cn/photos/hdn221/20091102/2100/large_5qni_48821i019116.jpg"/>
          <p:cNvPicPr/>
          <p:nvPr/>
        </p:nvPicPr>
        <p:blipFill>
          <a:blip r:embed="rId3"/>
          <a:stretch/>
        </p:blipFill>
        <p:spPr>
          <a:xfrm>
            <a:off x="0" y="5211720"/>
            <a:ext cx="197964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宣传及志愿者招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活动时间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活动地点：山东大学洪家楼校区第三食堂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具体实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挂条幅、贴海报，发放宣传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)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系蓝丝带，贴笑脸，拍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海报寄语 画画祝福，彩笔着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)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招募校外活动志愿者，征集纸星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)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志愿者活动培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箭头 3"/>
          <p:cNvSpPr/>
          <p:nvPr/>
        </p:nvSpPr>
        <p:spPr>
          <a:xfrm>
            <a:off x="7885080" y="6308640"/>
            <a:ext cx="1008000" cy="54936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流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二）校外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笑脸照片，爱心图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同康复中心的孩子们交流沟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献唱《海洋天堂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小提琴独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志愿者表演小魔术（红字突现等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8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表演短剧（或放提前做好的视频，也可是小魔术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志愿者们和孩子们一起画画，折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进行室内训练游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在户外进行游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赠送笑脸图画，互换所画，拥抱，微笑，合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左箭头 3"/>
          <p:cNvSpPr/>
          <p:nvPr/>
        </p:nvSpPr>
        <p:spPr>
          <a:xfrm>
            <a:off x="7885080" y="6308640"/>
            <a:ext cx="1008000" cy="54936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95b3d7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三）后期宣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新闻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篇：志愿服务开展新闻稿、公益电影放映新闻稿、校内活动新闻稿、校外活动新闻稿，活动总结新闻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海报：活动总结海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左箭头 3"/>
          <p:cNvSpPr/>
          <p:nvPr/>
        </p:nvSpPr>
        <p:spPr>
          <a:xfrm>
            <a:off x="7885080" y="6381720"/>
            <a:ext cx="934920" cy="47628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12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预期成果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普及自闭症的相关知识，使自闭症患者得到更多社会上的重视和关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使 公众对世界微笑日有初步了解，拉近人与人之间的距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帮助自闭症儿童了解外面的世界，对以后融入社会起到积极的促进作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让更多的学生走出校园，形成更好的人生观和价值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号召更多的人参与到关怀自闭症患者的行列当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2"/>
          <a:stretch/>
        </p:blipFill>
        <p:spPr>
          <a:xfrm>
            <a:off x="1322280" y="1603440"/>
            <a:ext cx="6278760" cy="353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hdn.xnimg.cn/photos/hdn221/20091102/2100/large_5qni_48821i019116.jpg"/>
          <p:cNvPicPr/>
          <p:nvPr/>
        </p:nvPicPr>
        <p:blipFill>
          <a:blip r:embed="rId3"/>
          <a:stretch/>
        </p:blipFill>
        <p:spPr>
          <a:xfrm>
            <a:off x="0" y="5133960"/>
            <a:ext cx="207324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可行性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活动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预期成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活动背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世界微笑日，是唯一一个庆祝人类行为表情的节日，我们通过世界微笑日，借助社会公益力量，关怀慰问自闭症儿童。用我们的微笑温暖孤独的心灵，让他们感受阳光般的温暖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自闭症，是一种由于神经系统失调导致的发育障碍，患自闭症的孩子，又叫星星的孩子。他们同样需要社会的关怀，他人的援手来帮助他们走出自己的世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活动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提高公众对自闭症患者的关爱程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慰问自闭症患者，丰富他们的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活动主题、口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活动主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微笑日，携手关爱自闭症儿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活动口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微笑传递温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星星点亮孤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左箭头 3"/>
          <p:cNvSpPr/>
          <p:nvPr/>
        </p:nvSpPr>
        <p:spPr>
          <a:xfrm>
            <a:off x="7740720" y="6066000"/>
            <a:ext cx="863640" cy="792000"/>
          </a:xfrm>
          <a:prstGeom prst="lef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可行性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活动简单易行，方便志愿服务的开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借助大学生的优势，帮助康复中心开展工作，促进自闭症儿童的治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增加同学们对世界微笑日和自闭症的了解和认识；丰富自闭症儿童的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让志愿者们体会成长的不易，树立关爱意识、责任意识和奋进意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左箭头 3"/>
          <p:cNvSpPr/>
          <p:nvPr/>
        </p:nvSpPr>
        <p:spPr>
          <a:xfrm>
            <a:off x="7812000" y="6237360"/>
            <a:ext cx="863640" cy="62064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2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64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左大括号 4"/>
          <p:cNvSpPr/>
          <p:nvPr/>
        </p:nvSpPr>
        <p:spPr>
          <a:xfrm>
            <a:off x="971640" y="2133720"/>
            <a:ext cx="792000" cy="3671640"/>
          </a:xfrm>
          <a:custGeom>
            <a:avLst/>
            <a:gdLst>
              <a:gd name="textAreaLeft" fmla="*/ 506160 w 792000"/>
              <a:gd name="textAreaRight" fmla="*/ 792360 w 792000"/>
              <a:gd name="textAreaTop" fmla="*/ 20520 h 3671640"/>
              <a:gd name="textAreaBottom" fmla="*/ 365112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547640" y="1773360"/>
            <a:ext cx="2303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校内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547640" y="3933720"/>
            <a:ext cx="2160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校外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692360" y="5516640"/>
            <a:ext cx="2087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后期宣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左大括号 10"/>
          <p:cNvSpPr/>
          <p:nvPr/>
        </p:nvSpPr>
        <p:spPr>
          <a:xfrm>
            <a:off x="3708360" y="1125360"/>
            <a:ext cx="503280" cy="1872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960 h 1872000"/>
              <a:gd name="textAreaBottom" fmla="*/ 18590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5400" y="10800"/>
                  <a:pt x="0" y="10800"/>
                </a:cubicBezTo>
                <a:cubicBezTo>
                  <a:pt x="54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4140360" y="1052640"/>
            <a:ext cx="338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机构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期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校内宣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志愿者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左大括号 12"/>
          <p:cNvSpPr/>
          <p:nvPr/>
        </p:nvSpPr>
        <p:spPr>
          <a:xfrm>
            <a:off x="3708360" y="3284640"/>
            <a:ext cx="358920" cy="1873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360 h 1873080"/>
              <a:gd name="textAreaBottom" fmla="*/ 186372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3"/>
                  <a:pt x="10800" y="345"/>
                </a:cubicBezTo>
                <a:lnTo>
                  <a:pt x="10800" y="10455"/>
                </a:lnTo>
                <a:cubicBezTo>
                  <a:pt x="10800" y="10628"/>
                  <a:pt x="5400" y="10800"/>
                  <a:pt x="0" y="10800"/>
                </a:cubicBezTo>
                <a:cubicBezTo>
                  <a:pt x="5400" y="10800"/>
                  <a:pt x="10800" y="10973"/>
                  <a:pt x="10800" y="11145"/>
                </a:cubicBezTo>
                <a:lnTo>
                  <a:pt x="10800" y="21255"/>
                </a:lnTo>
                <a:cubicBezTo>
                  <a:pt x="10800" y="214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左大括号 13"/>
          <p:cNvSpPr/>
          <p:nvPr/>
        </p:nvSpPr>
        <p:spPr>
          <a:xfrm>
            <a:off x="3851280" y="5516640"/>
            <a:ext cx="289080" cy="865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865080"/>
              <a:gd name="textAreaBottom" fmla="*/ 8578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1"/>
                  <a:pt x="10800" y="601"/>
                </a:cubicBezTo>
                <a:lnTo>
                  <a:pt x="10800" y="10199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1"/>
                  <a:pt x="10800" y="11401"/>
                </a:cubicBezTo>
                <a:lnTo>
                  <a:pt x="10800" y="20999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4211640" y="5445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宣传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海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4211640" y="3213000"/>
            <a:ext cx="338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心涂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微笑照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舞音乐魔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下箭头 14"/>
          <p:cNvSpPr/>
          <p:nvPr/>
        </p:nvSpPr>
        <p:spPr>
          <a:xfrm>
            <a:off x="2340000" y="2492280"/>
            <a:ext cx="431640" cy="1513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下箭头 15"/>
          <p:cNvSpPr/>
          <p:nvPr/>
        </p:nvSpPr>
        <p:spPr>
          <a:xfrm>
            <a:off x="2484360" y="4508640"/>
            <a:ext cx="358920" cy="10810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一）校内宣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机构联系：联系济南市明天儿童康复中心，了解同自闭症儿童接触的基本要求和技能，并联系宣传材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活动流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海报宣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宿舍楼下张贴宣传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网络宣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短信、飞信进行班级通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放映关爱自闭症患者电影《海洋天堂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50:22Z</dcterms:created>
  <dc:creator>acer</dc:creator>
  <dc:description/>
  <dc:language>en-US</dc:language>
  <cp:lastModifiedBy>acer</cp:lastModifiedBy>
  <dcterms:modified xsi:type="dcterms:W3CDTF">2016-05-04T02:34:37Z</dcterms:modified>
  <cp:revision>55</cp:revision>
  <dc:subject/>
  <dc:title>世界微笑日系列活动 策划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